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981C-6F98-4A5D-B4EE-7487DF410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4BDD-9D8A-4135-BBC9-FE8A05DD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0032-A3CF-4C42-9AD4-03C5E0CA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97D2-69F9-4844-B25E-6190F34B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AF4D-FE01-46EC-A208-9A151808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F85A-CA07-48FC-87AE-6F166941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D86A-7E65-47A3-A408-BDC8D01D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91C4-7774-43CE-92CF-6A7B3237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7870-431E-454E-8CB9-6E8CA9E9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79BE-6E90-4FAD-8211-2057FA2D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2316-646C-4467-ACBB-0A73A852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D35-B8D4-42D2-A44C-3D6B6C29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157C-DDC2-4DEF-9A27-556CC5B7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C9E8-C738-4726-A2A1-A73D2EC6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21F5-E336-4050-B744-A33A7D28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90A8-5B11-41AF-9AAD-1DC55A47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D27D-2B70-4F54-9D9E-DCFCE57D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119-2946-4386-A91A-EE25B790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FBDB-7F5F-4FB6-8C84-E34C0193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84A6-FBF5-47AB-AC28-7C3553CF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CCF9-1309-43F3-87BA-8C6B5768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673B-304F-4A14-B1FF-3AE5B2D7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4CA4-481F-4E09-A7FF-E84613E3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3E5B-5FC8-489B-8660-D1FE729F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6775-30D9-43CF-8CF3-5157F5B3E098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7D64-3A5C-4159-BEF8-254F52F85AEE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367"/>
              </a:buClr>
              <a:buFont typeface="Tahoma"/>
              <a:buChar char="◊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367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367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367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67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367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Time to Party…almost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Day 1 of Micro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ections 1 &amp; 2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2C70-A143-4F9F-AA80-16AA8A249A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Part 2:  S/D Interactions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e each pursue our own goal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Need other party to make it happen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onsumers BUY MORE WHEN PRICE IS LOW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Producers SELL MORE WHEN PRICE IS HIGH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Picture worth a million $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7789-B203-40E7-A597-9FEEBE9CBB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Why demand down?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ubstitution Effect:  buy cheaper item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ncome Effect:  math side; cheaper prices mean you can buy more (more REAL buying power…REAL INCOME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Law of Diminishing MU:  more &amp; more gives you less &amp; les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Not the same for everyone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387F-8038-4E11-848B-74E8F4DEA5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Lots of things change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Don’t worry about the lis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hat matters is effec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ink about “who” firs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f makes us want more or less-Demand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f affects cost-Supply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hange in demand vs change in Q dem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hift of vs shift along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86A-C74F-4F04-8E7B-511392EE32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Smelling roses on a spring day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e market is self-correcting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upply &amp; demand never stationary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PRICES serve as signa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Tell us how much to buy; them how much to make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Keeps things in balance as price can adjust to EQUILIBRIUM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9F3B-26A5-4D5C-A11D-CC9CE2FAE8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Our job is simple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As a consumer thought never progresses…buy what you wan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f it’s worth it, buy i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onsider dim MU &amp; how importan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ELASTICITY OF DEMAND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Measures how we react to a change in price (how RESPONSIVE we are)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C3E-D56A-4390-8153-ED057856BD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Elasticity of Demand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Equation(s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e don’t care…we buy (or not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nelastic: E &lt; 1;  Q &lt; P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Necessities, few subs, more “important”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Elastic: E &gt; 1; Q &gt; P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Luxuries, many subs, less “important”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B09-F05F-49B6-964F-7AD46260DA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We really don’t care…they do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Producers use this to make more $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Know when to raise price (inelastic) or lower (elastic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EVERYTHING ALWAYS FITS BOTH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DEMAND CURVE HAS SECTIONS OF EACH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ANALYZE THIS USING GRAPH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FD76-6122-4B8C-9A06-E7B4759A75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Use elasticity for evaluation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Analytical too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Just like cross-price &amp; income elasticity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-P: determine comps &amp; sub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: determine normal vs inferior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Equations &amp; example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8C3A-96D9-45AD-96AA-06F0284D8A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Not our problem but yours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e buy stuff…we are happy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ey have to sell what we want to buy (CONSUMER SOVEREIGNTY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eir supply is most based on costs of production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osts change so does supply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ometimes fast; others slow (TIME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82E7-67C4-4781-8915-FA3FC35A96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All happy in the end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UPPLY &amp; DEMAND HAVE AMAZING ABILITY TO BALANC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ink about now…what happens when we balance?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Better to stay in happines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ho unhappy w/ high prices?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Low?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A206-4B56-4BFC-BE0A-2592DFD507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Objective today is to review first two section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Goal is in &amp; out in 30 minute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ore concerned with you paying attention than taking note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D92F-F45E-4E97-AA97-E3B58E9A79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Sometimes it comes from Gov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Don’t like our pric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an use SUBSIDIES or EXCISE TAXE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hange market price to “make it better”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Also use PRICE CEILINGS &amp; FLOOR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OFFSET THE NATURAL POINT OF EQUILIBRIUM (hurts some; helps others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F1B3-0682-422B-BBF4-E38AF6CADA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Part III:  The simple life (21-27)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o sweet, so simpl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Life as a consumer is pretty good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All we have to do is buy what we want 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f we don’t like the price, we don’t buy i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hole idea is to maximize utility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Utility is satisfaction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E410-741C-4880-9C62-F871F25006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Once doesn’t mean again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Our satisfaction is our goa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 bought the sweetest minivan on the market…doesn’t mean I would buy a second on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Law of Diminishing MU:  the more you have of something the less MU it add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At some point this always holds true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Doesn’t mean it has to start that way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A71C-DBCD-460C-8BA8-A7F5838F86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Big menus make life hard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 don’t like restaurant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hoices STINK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 want it al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hen I order I usually want what someone else go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Goal is to buy what gives you the highest MU / $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FC3-55D8-4A7C-94A8-FA60601B95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066680" y="1219320"/>
            <a:ext cx="6934320" cy="354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5E14-9B4E-4BF7-A070-79A6E79A3B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But what do I buy next?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e first thing you buy is the one with the highest MU / $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f you are still hungry you get what has the new highest MU / $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ould be the same thing, but after the burger and fries you may desire the milkshake the mos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D539-976A-4E3C-82F8-6BFBFE8BCF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Eventually E is reached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onsumer equilibrium occurs when MU/$ of each item is equalized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f one thing is best you buy i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ontinuing buying until MU &lt; $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hen do it w/ everything end result i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U1/P1 = MU2/P2 = MU3/P3…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9B38-1B5A-4414-B14B-25AAE0594C1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8020080" cy="400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BDF7-1209-496B-A179-3C7036C646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Part IV:  Producers (28-47)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onsumers buy stuff b/c they want i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Producers make &amp; sell stuff b/c they want our money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Goal is to maximize profi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otal Revenue - Total Costs = PROFI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Goal then is to maximize output while minimizing cost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0406-A939-444D-B534-0BC5F439B7C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They need us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an’t make money if we don’t buy i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e create demand when we are willing &amp; able to buy stuff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Our demand creates DERIVED DEMAND for the things they need to make what we want to buy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hey want to buy stuff b/c they can sell it to u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CA59-8F9D-4CA0-B7ED-03CB78A8D67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Back to square 1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Economics is the study of choice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carce (limited) resources force us to decide what to do w/ them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n doing so we try to maximize efficiency (most output/input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B52-CC34-4C3D-A636-24E6F1125B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914400" y="1066680"/>
            <a:ext cx="7080120" cy="412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D19D-9CE3-4608-8319-C170E8348FC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Lots of stuff CAN work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 need to make more cookie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 could hire more help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 could buy another oven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 could buy a bigger mixer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any different inputs can achieve the MB &gt; MC…which one do you buy?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E91C-BE46-48F5-A181-FDE67ECB40A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The one that does it the best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ant to purchase what gives the highest MP / $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ame concept as MU / $ for consumer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Buying what gives highest MP / $ helps you to make more money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PRODUCTIVITY: output / inpu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Typically per human hour worked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50A9-90DE-45C6-B5AA-D6B6F0A7CF7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85800" y="547560"/>
            <a:ext cx="7543800" cy="559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5D3F-8AB0-4D29-B400-C2E43AD747E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Result is the same as well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onsumer/producer makes no differenc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End result is the sam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P1/P1 = MP2/P2 = MP3/P3…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Least-cost Rul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ells you what to buy first…but when should you stop buying it?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5479-F5B0-43FE-86AF-DD056634B31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MRP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arginal revenue product = value of input = demand = willingness to buy i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Tells you how much it’s worth to you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As long as MB &gt; MC it’s ok to buy i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RP &gt; MC then hire that inpu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BF09-4A66-4E2A-B860-F91F2D68563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Most applicable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RP = MR x MP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arginal revenue x marginal produc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f I can hire another worker and get another 10 dozen per hour and sell them for $3 profit per item, how much is that guy worth?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Hire him as long as wage &lt; $30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547E-E9BD-4FF4-B054-215402A32AF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057400" y="0"/>
            <a:ext cx="511812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9258-1251-4917-ACA9-BCC7939F5BE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MR constant, MP changes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For our level, MR usually always kept constant at the one selling price (PC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P will change with additional unit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Law of Diminishing MP:  KEEPING OTHER FACTORS CONSTANT adding additional units of one input will eventually produce less MP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9E11-6CFE-46A4-98AC-FE09491A7AC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Feed the world from a flower pot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Classical exampl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f diminishing MP didn’t exis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One flower pot, some sun, and endless fertilizer would produce enough food to feed the world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Obviously not tru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B072-8ACF-48C8-8BE2-27E1528072B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Case in point…PPC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Graph showing different combos of two good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ant to do as well as possibl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Assuming full use of resources &amp; technology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3C88-672E-4662-843D-5A8ABD866E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082960" y="88920"/>
            <a:ext cx="4978080" cy="668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CAA7-31E1-4822-A015-50F53B34BD6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MP vs returns to scale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P includes keeping all constant &amp; changing one inpu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Returns to scale involve changing everything in like quantitie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Double everything what happens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Constant, increasing, diminishing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P would be changing labor but keeping everything else the sam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7FC0-AF14-4ACA-AEE8-BF5359FF48A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Work hard to make $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ust also consider all costs-both implicit &amp; explici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Explicit is what normal people think about (stuff you pay for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Implicit is opportunity cost (stuff you give up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Economists consider both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5042-F115-413E-AF63-3EA5E221F72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different types of profit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Accounting = TR &gt; TC 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Ignores implicit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Normal Profit:  TR = TC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Considers implicit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Economic Profit:  TR &gt; TC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36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Considers implicit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069-CC61-4A0F-BF4E-CF53E7BD830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Love the costs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FC, VC, TC, AVC, AFC, ATC, MC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FC = capital (output irrelevant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VC = land &amp; labor (based on output)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C = cost to make one mor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Graphs rule!!!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7026-3C3D-4E52-A4F5-4E7AADF1B9B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7480080" cy="367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30E5-FCFD-44E4-B947-ADCAF89A0F6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031840" y="406440"/>
            <a:ext cx="5421600" cy="645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41A-9F1D-460E-B308-8F5B0287204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28600" y="846000"/>
            <a:ext cx="8153280" cy="484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C868-32D4-45D5-A0CD-CD7C483BF48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C999-CA9B-450A-B3A9-54EE6D2E5D2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Producers &amp; consumers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Doesn’t matter who you ar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ame goal…get as much as possibl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U versus MP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atisfaction versus profi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Get away from “study”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Get into “thought”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23B2-B1D6-45E0-8596-1D12221F17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Both guided by “invisible hand”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elf-regulating nature of marke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We all do what’s good for u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Everyone doing that makes everything function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EC8E-6AB7-49CB-8416-B14E28CA47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That becomes a problem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Diff between command &amp; market economies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Markets are like pretty flowers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Command are like gym class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All decide What? How? For whom?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Command fail due to lack of incentive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367"/>
                </a:solidFill>
                <a:latin typeface="Tahoma"/>
              </a:rPr>
              <a:t>Markets thrive on private property &amp; protection of ability to benefit from hard work</a:t>
            </a:r>
            <a:endParaRPr b="0" lang="en-US" sz="28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DD1A-A223-450F-B9A8-30364A048C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Markets on auto pilot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illions of transactions per day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No one pulling string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Products &amp; money flow around the circular flow mod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implified model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B955-3236-49E2-AB7F-1677B4C6B5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bd27"/>
                </a:solidFill>
                <a:latin typeface="Tahoma"/>
              </a:rPr>
              <a:t>Factors of Production</a:t>
            </a:r>
            <a:endParaRPr b="0" lang="en-US" sz="4400" spc="-1" strike="noStrike">
              <a:solidFill>
                <a:srgbClr val="fabd27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tuff flows one way; money the other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Factor market, product market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Sell factors of production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Buy products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367"/>
              </a:buClr>
              <a:buFont typeface="Tahom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67"/>
                </a:solidFill>
                <a:latin typeface="Tahoma"/>
              </a:rPr>
              <a:t>Money is used to buy things, but is not in itself a productive resource</a:t>
            </a:r>
            <a:endParaRPr b="0" lang="en-US" sz="3200" spc="-1" strike="noStrike">
              <a:solidFill>
                <a:srgbClr val="fff367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D775-33E7-4039-AB77-AE758E7D3F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1:43:23Z</dcterms:created>
  <dc:creator>Lewisburg Area School District</dc:creator>
  <dc:description/>
  <dc:language>en-US</dc:language>
  <cp:lastModifiedBy>Lewisburg Area School District</cp:lastModifiedBy>
  <dcterms:modified xsi:type="dcterms:W3CDTF">2010-04-21T16:29:37Z</dcterms:modified>
  <cp:revision>12</cp:revision>
  <dc:subject/>
  <dc:title>Time to Party…almost</dc:title>
</cp:coreProperties>
</file>